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D46-EF37-4808-AE92-E4A1E056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8AA5-1A3D-47B3-8B57-CFEA7199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482-7BF8-41FC-8780-6C4BB2E1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8791-EE9E-4DEE-A0E8-8FEAC7CD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23C-75A6-4104-BE18-10F1C046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462-0A29-468E-B373-A3CB85B0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92C-6FE8-4211-B752-02E88ED7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D5B-BFEC-44C8-94BC-B07DF744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D27-081F-4FCE-A0D7-0F3D9DAF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F28B-E514-44BA-9C2A-5798A842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FEB-C592-4F4E-A4F2-5FB5CB62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3FA-B72F-404B-B923-5D3821AC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61BF-B90F-4D08-ACD3-B61DAC998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SU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ŞI OCEANUL IND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Geografie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se află în partea meridională a continentului. Are în egală măsură limite marine, în sud, unde este scăldată de apele Oceanului Indian, şi terestre, în rest, fiind mărginită de alte regiuni asiatice. Cuprinde o parte continentală, o mare peninsulă (Peninsula Indiană), o insulă mai întinsă (Ceylon) şi câteva arhipeleaguri (Maldive, Andaman, Nicobare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sia de Sud este o regiune de platouri şi munţi înalţi. Platouri există îndeosebi în partea sudică [...]. În schim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munţii se desfăşoară în partea nordică, unde formează cel mai înalt şi mai masiv lanţ muntos de pe glob: Hindu Kush – Karakorum – Himalaya. În acest lanţ muntos sunt concentrate toate cele opt vârfuri de peste 8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 de pe glob, inclusiv cel mai înalt pisc: Chomolungma, cu 884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cestă regiune există şi câmpii, fără să egalez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s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imensiunile platourilor şi ale munţilor. Face excepţie Câmpia Indo–Gangetică, una dintre cele mai întinse de pe glob: se desfăşoară pe circa 2000 km lungime şi pe câteva sute de kilometri lăţime. Este o câmpie joasă şi fertilă, udată de fluviile Indus, Gange şi Brahmaputra, care sunt cele mai mari din regiu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Sud este una dintre cele mai populate regiuni ale continentului 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totodat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de pe întreaga planetă: concentrează mai mult de o treime din populaţia Asiei. Totuş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n Asia de Su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e întâlnesc mai puţine populaţii decât în alte regiuni ale continentului, între care: indieni, pakistanezi, bengalezi, afghani, nepalezi, singhalezi.[…]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ceanul Indian, cu cei 73,4 milioane km</a:t>
            </a:r>
            <a:r>
              <a:rPr b="0" lang="ro-RO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ai săi, este al treilea ca întindere între oceanele plan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fiind delimitat de patru continente: Africa (în vest), Asia (în nord), Australia (în est) şi Antartica (în sud). Spre deosebire de oceanele Pacific şi Atlantic, se desfăşoară în cea mare parte în emisfera sud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comp_i"/>
          <p:cNvPicPr/>
          <p:nvPr/>
        </p:nvPicPr>
        <p:blipFill>
          <a:blip r:embed="rId1"/>
          <a:stretch/>
        </p:blipFill>
        <p:spPr>
          <a:xfrm>
            <a:off x="5257800" y="190512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spundeţi la următoarele întreb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rmăriţi harta şi tabelul ţărilor din Asia de Sud şi notaţi în cai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insul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ările fără ieşire la m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ţara cea mai populat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regiunea Asia de Sud prin trei elemente specif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rse ale subsolulu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alizaţi harta Oceanului Indian şi numiţ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aralelele importante care-l traverseaz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zonele climatice în care se desfăşoară suprafaţa oceanulu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incipalele ins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057400" indent="-3808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nţul muntos submar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57Z</dcterms:modified>
  <cp:revision>38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